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EF4-224F-47E9-9DBA-3ECADF88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F63-6F38-44BE-BB8B-BB31C531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E46-81F6-46E6-81C2-4F67D0DC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316-F7DB-4D1B-8B5C-ECB83348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C95-5E4B-4103-A187-2334D663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383-845C-416A-A3A3-47FFCE16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7DF-1265-4DC6-8D5F-5EDFEC86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7F2-AA2E-47AB-89FA-627EA105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829-F8DE-4D9D-950C-5BEC4F20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96C-61EB-4FDE-B51B-7D8C751B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FFB-BE49-4B32-8958-0374B77B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9F7-42EC-4461-9E90-982B2E37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0E48-8C18-4304-BB26-07D3CD271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do writers need to include in their beginning, middle, and en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 writers have to take a position on an issue to persuade other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o writers need to use facts to support an issue instead of opin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I use a self assessment to make me a better reader and wri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use the research process to communicate what we have learned about a su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best assess whether we have met the standard in our writing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o details enhance the characters and the actions of a stor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dialogue help to enhance the characters and their actions in narrative stori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transition words help to smoothly move a story alo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the use of appropriate capitalization help to make our stories more understandable and easier to read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the use of correct punctuation help to add meaning and clarity to our narrative stories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the use of a variety of pronouns help to keep our stories engag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use the research process to communicate what we have learned about a subject?</a:t>
            </a:r>
            <a:r>
              <a:rPr b="0" lang="en-US" sz="4400" spc="-1" strike="noStrike">
                <a:solidFill>
                  <a:srgbClr val="000000"/>
                </a:solidFill>
                <a:latin typeface="TimesNewRoman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we best assess whether we have met the standard in our writ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93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3:32:46Z</dcterms:created>
  <dc:creator>Abby Owens</dc:creator>
  <dc:description/>
  <dc:language>en-US</dc:language>
  <cp:lastModifiedBy>Abby Owens</cp:lastModifiedBy>
  <dcterms:modified xsi:type="dcterms:W3CDTF">2010-05-28T00:23:37Z</dcterms:modified>
  <cp:revision>13</cp:revision>
  <dc:subject/>
  <dc:title>PowerPoint Presentation</dc:title>
</cp:coreProperties>
</file>